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632C-BCA7-4AC6-9A15-69A0044D8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A738-4AFC-468D-AFDC-B1D0DC85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10F02-B5F0-4A08-BEAD-AE2CAC61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D1A61-5CBA-4DBB-BE37-58633804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A18BA-680F-4562-93EB-DF275BD0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154E9-4550-4073-82FC-DA89A25A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C4D69-0BDB-4306-B6B8-326AFB31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DA02E-A2DB-46E3-BE45-B7919A0A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D9CE0-9CD1-42B0-A997-85CCD0FE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482BB-3965-483D-9B08-1C5E23BBD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57727-9BD3-4C18-889A-1150BF0BC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452B3-F337-4F4E-93FB-CA3833FF3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B81A-7FAD-4908-81E2-7242F5768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2CA2F1-9206-434B-A845-48B067FF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A9B17-A2BE-485E-985A-B55448AF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9ACBE3-1D42-4902-9116-B8C1C261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9A7D41-E27F-4038-9CCB-5AD0D68C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1179A-244A-4B8E-AA6B-A25B462B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2CCFA-650E-415E-ACB9-2AFA8785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83907-60EB-4D35-B171-8CB9CFF7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B7DC9-F80F-41B3-AF23-E3732A3A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31A47-7665-4E01-B83F-839CC5EC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28B1D-5551-423E-8FDA-99EF2DB7F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C589-1414-4EC6-AB49-FB3D6010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43E42-2CA3-4840-A280-54FC7EFA8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05100-BED6-41CC-9986-0DB76DEA1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5C820-18A2-4DBD-8A2F-E8FF718C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0DFCF-A0B1-40D2-AF0C-1B12150E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11ED7-36A3-4195-953F-89745BBB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D0848-92A4-4F70-834D-3A93050A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494AE-B7CF-47C1-9314-FB7BA45B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5BE3C-991E-4227-9F38-AE09B78B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ECE2B-640F-423C-8B02-20CD9D16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F137D-7B18-4229-A8F1-876F9077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0926-3CCE-45C5-BAA5-3A4F4BCBF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083A9-F99B-4182-88CB-C81ABD6F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66FC3-AA0A-4458-8ED8-4465D5768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0DA3F-AF34-4A47-BD98-CB6D42E46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47A4D-B447-4EFD-8B6B-4EB1DCE24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1B6174-5205-4166-9948-291EC080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9E0347-9553-45AD-BDED-EC81D19B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6B913C-1B58-4515-8F4D-AF9A0616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8BC65-7369-499A-A363-3DD50683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EEA1D-93F0-4991-87A7-E6235D8C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EC499-29BC-4392-83F4-2F4D5C20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228E-2810-44C6-9FF5-708BAD87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D0B6CC-F834-44C6-BDD0-C069D9D8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3603F1-96CA-44B7-8EB1-AAD7CAFE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FF830-0968-4857-9996-E746F7B9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1508C-D4B3-4A06-97BE-48FAB974A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17B28-A835-44CB-BC10-1A3314E54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3BC476-51E9-499A-A1FE-53B9B0238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99F66B-EC61-48A5-9261-67A86DC7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109DAE-1D1D-4C51-8A38-FE33CA7D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2FECAE-A3EC-4201-A284-E61623D8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47E148-726B-4E8D-98CF-C00DAD68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64A6-65D0-48A9-AB2F-F5E73B94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BD1FC9-B8FA-4EB0-BEF4-AF076036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5885DD-10EC-4877-9C66-09F90640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2EADDF-BF89-4D1D-A070-CB21879B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1C17C7-E9B7-4C8E-8477-033F4772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50B20A-B033-4872-83A3-E7571A09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E7D4D8-08B5-4416-A367-E7A980C2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733557-DBA8-49B0-9BDB-1A61E0808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8FAD76-AF6E-43FE-A539-3333390C2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CD42A8-C3F6-4879-8C6A-C22F53BC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363C4C-F6BD-40A0-9F6A-615E2515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CCB9-6F43-40C1-A0B7-AC38DF6B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0D8394-05BF-464B-8A0F-03DBD7E1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24AAB4-B495-436E-BFB9-EB3026B8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3D6775-0B6B-4CDD-B477-4B483004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2833CE-5008-4605-9E5D-6DE768F8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1E8C7B-4F70-4338-82E5-5F122A6A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503C37-6C78-40E0-93F0-C8C68D21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2B5FBB-F3D9-45A5-B36D-381531A6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5A372E-8628-4DF4-A77B-063FCEED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7373E6-E8C7-4221-9D1A-59717C85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D6EC6C-AE77-40B0-B5EF-F3CEA525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5B53-2596-4CB2-BCC6-2634BF0B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019E57-58DC-4E59-89E6-679CA0B7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27072C-4B83-4828-A32A-D1453543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483B79-0DEC-4470-827A-A9460BF6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2ADACE-CEEF-4707-A541-A9BA1C02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341B8A-3D93-416B-96EF-178E2839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8D4756-7CC0-4FAA-88A9-083740F4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657EB3-B8C1-4F80-979B-012BE0A0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56615B-A69F-440A-916A-33706E91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6650EC-AF41-4136-8DEE-CBE2031D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96A053-5E38-4BC3-837B-65EDDE0D1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A27E-BC10-4624-ADF1-DEA4460A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229705-341D-4CB6-AFEF-FE8EC3946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365443-3D72-4C2A-AE44-7E96805F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C4403A-9E29-4BB8-B986-0A68EEC4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AE79AD-EF39-46D3-AD10-C36C38A0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A54A20-4757-498E-AB17-3AC33AEF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D7C88F-E6C7-4BCB-AA06-840DCB1E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A355D4-244D-41A4-B67E-CE573992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F8399F-5201-46EF-9D91-24045948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4DAD0F-5831-4512-B11F-AD3C1515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7A11CD-DA2E-437A-8034-CD701F91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8764-EEB4-4AC5-8CAA-F634B7EE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411516-C21A-4DA1-9D87-2BFD72A9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362D7F-0327-4377-AE6E-D30C8BB0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B771D4-464B-4FFC-BF95-D7783018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973D63-BBCE-4E51-BED4-405FE779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1C856B-FA3E-4592-BD2E-95FE57D8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3D2DAE-7B7B-4016-A7EC-9C419F2F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8FAFAC-AD85-4C22-94F8-804E1AE5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0B4C70-11BD-4747-8E1A-664D2480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31D9B5-8D48-4C55-A9C8-7F1893AC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F6B5E5-370B-400E-8C50-FCBD8588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D0E9-48AD-4DBD-A61D-F4AF7BB4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61F5-DE14-4687-BB7B-B77EB1D8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727478-B5C3-4817-A7FF-16EAB99C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3533CA-82C1-46A5-874D-46017154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2A2B63-3ED5-444E-803F-F57A1020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A85198-643B-406D-81ED-80442078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B07BEC-7329-45D0-8192-EA53C3B00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20A836-D950-4D1C-882F-7C96512AD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5E0140-66A1-4B99-9633-CE160E14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22968C-E1A4-427A-8319-E83C89C6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B6B490-FFBC-4CE6-92DB-EC6C3E06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A22952-415F-45D7-B242-2FDC36F8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49B6-5189-4ABD-AEC3-AF4E1DCD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2EF0FB-242B-41C4-9FC1-1D7948ED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5117A8-3291-46B5-B4AE-4AC9CBBA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6B85B0-DCB0-439B-ABB9-BC5F6B67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867BA3-CDB0-4A50-A1A9-3456C69A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460B98-FB56-4666-B2AE-9E3EAF5F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67FE83-3F0D-4FC4-8EE2-0EBF8ED99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3D3ACE-B6F6-471F-BD15-808625488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E73B-0DB7-41AF-BB99-8F97189B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9482-E4FD-4EE8-8F01-9EA2D5E16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599E-FEED-452C-910A-1CEBA1F2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29BB5-8B42-41EA-A7D4-2BF6BE438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A2501-4257-407D-9D17-D4BB860E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68FA0-4C05-4A72-B37F-BC85B4FF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61ECF-DEC3-4D42-8694-493668D7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E4108-2A91-48EF-BB68-5080A9CA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669F-234B-440B-8EEB-84AFE275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C164C-FFEF-443C-8F4B-94E6E586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EB54C-DB41-4192-B8A2-295EAF47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08E2C-7CB2-4920-8EBB-D590BFDC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2F6C9-FBA2-44F1-A809-9242E5CE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B528E-0B65-4E36-BA7D-26DEC27A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55E8C-48C8-4A20-82C1-598EBB345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59715-4A4D-46A9-95DC-A742794F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E3A1F-7A1C-47A2-AFCF-C34CFF890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AFD49-3B59-4DED-9F58-9B0FEC5B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62037-0E06-4C20-97F6-97F6A9A8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D205-62DB-472E-A048-7B4C4189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8D653-1E5D-4422-8376-6BD22856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2B3D1-B1D5-4A6A-B3ED-4866E668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C5AD0-07F8-4EA6-B185-77B763FC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558A3-9D5F-49B5-8557-77057D8C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C4E32-56C7-4B6C-AACA-08E25853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6D1A9-89C3-429F-B064-9F671FD3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959FC-33C7-4F68-939E-CA8BD091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BF134-1B8C-4609-BEEA-287CD2246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F6993-7ADC-40E5-9551-769B5ADC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F153E-291C-4B41-A0AC-ECA5917A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F380-FC58-4B18-B4E1-C4D9A601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37880-4D42-49A8-8FF6-2354BC02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11F30-E48A-4205-B70A-FEE6631A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BA2CF-C438-474C-835E-3A8ACA75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0E7DC-20BC-43A3-A4A3-5C89D24A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520D2-05C4-4057-8631-BFC440DF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12E6B-20DC-41F0-A994-8714DF6F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179DA-CF68-487D-AD4A-3387357C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8DE23-F23E-47D8-8C8B-3C2E1B70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3B174-B025-4720-A85A-74288228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21453-A976-499D-8E6B-577A8B6C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4F8E-67D1-41DD-B8F8-37EA6CE2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34AB1-613E-4C8B-9DBB-15BB83001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3DBF1-CDFA-43C3-9CE4-9E4931968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0242F-241B-42F0-8782-E53653C7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93156-8F7F-4782-B61F-4F092BDC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72999-7456-4122-B527-F675177D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BCE2A-19AB-4FFD-8DAA-AF8B9CBE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CE7F4-8E6C-4F5D-B2EA-F60373E5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45171-64B8-477C-8EE4-A9571B16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71E9E-5587-4B34-9EB9-C6EECC8B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6EAF5-D036-4BE5-BE1F-625AFC38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1480-4BE3-42F7-B8E4-01AB8D2F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776D3-E284-432A-BDCE-70C48596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763DD-D4AF-47D2-9458-A240D84AE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D840B-5C6D-4394-A9B2-A25723EC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35B6C-ED71-49BC-B4F0-F24DC4133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BF792-6BF9-4A85-B3AC-247B48F6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E0AF8-1D34-4AC5-A08D-E3A0D9F4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5B145-BF8F-4A2F-BD68-467D22E3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734C1-82D5-4A26-92FB-02701425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74255-3061-4B7A-A804-8114AF8C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A4F38-CD7D-4E74-88F7-453CEF0B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DA2C-335A-4831-981A-4933B854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9AAC3-6AEE-4995-B09C-1BE267DA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2D9E9-FF1B-400E-BCE3-62E0EFB2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07A61-36F7-4396-A3FA-CC576684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52717-8804-49A7-975F-57C664D0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2A778-DEE5-419A-91F8-D79F6C1B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F5692-D69A-4BE5-A264-79207A037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A7AAC-EEEE-4203-ADB3-52BECE5A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98452-49C7-42C6-91D6-945E7D2F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21889-6418-44C1-8BF6-3D7F7F5C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F9E79-8137-48F7-B00E-D79F8063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911E-9E59-47B4-B2E1-A40929BF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30BA8-0199-4A5A-AEDD-CDC01CE2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6C676-2AB0-424D-B250-F8AD36D9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A937D-F568-402B-BB8F-F94629CD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A0F51-09FE-4CFE-81BA-919365D1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01532-3098-4F11-AB47-0E0D78E5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B0024-F4B5-4AA1-A727-FA45CBB71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09044-839A-4234-BFE0-2504F24D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23EE7-C5CE-4CCC-9609-C0C8B0ED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C0F06-4AC2-40A8-801E-09790ECD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BBF5C-D525-467D-94E8-3103C464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B26D09-B1A7-4DFF-9874-A120E1C9B352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5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416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8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9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0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57E75E-C279-4DF3-B27A-94001F9D568C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2" name="Group 7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463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Rectangle 10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66" name="Rectangle 11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3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1FBD25-9C60-49F3-AEAC-F83CEFAD442F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9" name="Group 7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10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Rectangle 10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13" name="Rectangle 11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4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5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6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9225A4-A121-47EF-BEA3-659837746422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6" name="Group 7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57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Rectangle 10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60" name="Rectangle 11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561" name="TextBox 12"/>
          <p:cNvSpPr/>
          <p:nvPr/>
        </p:nvSpPr>
        <p:spPr>
          <a:xfrm>
            <a:off x="271440" y="747720"/>
            <a:ext cx="5335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“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2" name="TextBox 13"/>
          <p:cNvSpPr/>
          <p:nvPr/>
        </p:nvSpPr>
        <p:spPr>
          <a:xfrm>
            <a:off x="6967440" y="29988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F6A769-6CED-46D8-ABFC-DB331D173718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7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606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Rectangle 10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09" name="Rectangle 11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40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4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42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B35FC4-8911-44CF-A4C1-CAFECEE2FF1E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52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653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56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72FF3D-459D-4A61-8B57-650141094126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9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00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03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4BBE91-FB39-430A-B2D3-2A6F413AF6D7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46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47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50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4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C5DAA0-53EF-476E-92A5-9F506034A3B2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3" name="Group 7"/>
          <p:cNvGrpSpPr/>
          <p:nvPr/>
        </p:nvGrpSpPr>
        <p:grpSpPr>
          <a:xfrm>
            <a:off x="7322760" y="0"/>
            <a:ext cx="1366920" cy="6862680"/>
            <a:chOff x="7322760" y="0"/>
            <a:chExt cx="1366920" cy="6862680"/>
          </a:xfrm>
        </p:grpSpPr>
        <p:sp>
          <p:nvSpPr>
            <p:cNvPr id="794" name="Rectangle 8"/>
            <p:cNvSpPr/>
            <p:nvPr/>
          </p:nvSpPr>
          <p:spPr>
            <a:xfrm rot="5400000">
              <a:off x="5362920" y="1959480"/>
              <a:ext cx="5286240" cy="13669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95" name="Rectangle 9"/>
            <p:cNvSpPr/>
            <p:nvPr/>
          </p:nvSpPr>
          <p:spPr>
            <a:xfrm rot="5400000">
              <a:off x="7289280" y="5462280"/>
              <a:ext cx="1433520" cy="13669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dt" idx="52"/>
          </p:nvPr>
        </p:nvSpPr>
        <p:spPr>
          <a:xfrm>
            <a:off x="50288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ftr" idx="53"/>
          </p:nvPr>
        </p:nvSpPr>
        <p:spPr>
          <a:xfrm>
            <a:off x="509760" y="5935680"/>
            <a:ext cx="451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 type="sldNum" idx="54"/>
          </p:nvPr>
        </p:nvSpPr>
        <p:spPr>
          <a:xfrm>
            <a:off x="7430760" y="5432040"/>
            <a:ext cx="114948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B94657-2F2B-41C8-938F-63E950636476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HD-ShadowLong.png"/>
          <p:cNvPicPr/>
          <p:nvPr/>
        </p:nvPicPr>
        <p:blipFill>
          <a:blip r:embed="rId3"/>
          <a:stretch/>
        </p:blipFill>
        <p:spPr>
          <a:xfrm>
            <a:off x="0" y="4243320"/>
            <a:ext cx="6726240" cy="27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HD-ShadowShort.png"/>
          <p:cNvPicPr/>
          <p:nvPr/>
        </p:nvPicPr>
        <p:blipFill>
          <a:blip r:embed="rId4"/>
          <a:stretch/>
        </p:blipFill>
        <p:spPr>
          <a:xfrm>
            <a:off x="6834240" y="4243320"/>
            <a:ext cx="2306520" cy="2779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9"/>
          <p:cNvSpPr/>
          <p:nvPr/>
        </p:nvSpPr>
        <p:spPr>
          <a:xfrm>
            <a:off x="0" y="2590920"/>
            <a:ext cx="6726240" cy="1658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6834240" y="2590920"/>
            <a:ext cx="2308320" cy="165888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5580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33160" y="5935680"/>
            <a:ext cx="402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2749680"/>
            <a:ext cx="137016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61FE75-25E1-4F71-B238-5260E077B41D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90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3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DCBFA2-A18A-4F7A-AD88-635862603DFC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7"/>
          <p:cNvGrpSpPr/>
          <p:nvPr/>
        </p:nvGrpSpPr>
        <p:grpSpPr>
          <a:xfrm>
            <a:off x="0" y="2728800"/>
            <a:ext cx="9161640" cy="1676520"/>
            <a:chOff x="0" y="2728800"/>
            <a:chExt cx="9161640" cy="1676520"/>
          </a:xfrm>
        </p:grpSpPr>
        <p:pic>
          <p:nvPicPr>
            <p:cNvPr id="137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40842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40921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10"/>
            <p:cNvSpPr/>
            <p:nvPr/>
          </p:nvSpPr>
          <p:spPr>
            <a:xfrm>
              <a:off x="0" y="27288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40" name="Rectangle 11"/>
            <p:cNvSpPr/>
            <p:nvPr/>
          </p:nvSpPr>
          <p:spPr>
            <a:xfrm>
              <a:off x="7710840" y="27288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53654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856640" y="286992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FEF365-0273-4AFA-8FD8-4F6FF07A59D4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184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87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0E93E4-AED2-406F-9A74-FE8CC54D919A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31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34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E393D0-659C-4CCB-8335-F2A9EFA00E85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78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81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633FC9-2DCA-4D0A-91EF-5C86A21104E3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HD-ShadowShort.png"/>
          <p:cNvPicPr/>
          <p:nvPr/>
        </p:nvPicPr>
        <p:blipFill>
          <a:blip r:embed="rId3"/>
          <a:srcRect l="0" t="0" r="9872" b="0"/>
          <a:stretch/>
        </p:blipFill>
        <p:spPr>
          <a:xfrm>
            <a:off x="7716960" y="1973160"/>
            <a:ext cx="1444680" cy="14472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8"/>
          <p:cNvSpPr/>
          <p:nvPr/>
        </p:nvSpPr>
        <p:spPr>
          <a:xfrm>
            <a:off x="7710480" y="609480"/>
            <a:ext cx="143352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584AA3-FDE1-488C-AD59-4FFD8D7706E3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8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369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72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52F70A-BE63-4352-8D73-99E184B987CB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9280" y="2743200"/>
            <a:ext cx="606924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800" spc="-1" strike="noStrike">
                <a:solidFill>
                  <a:srgbClr val="ffffff"/>
                </a:solidFill>
                <a:latin typeface="Trebuchet MS"/>
              </a:rPr>
              <a:t>ТЕРМОТЕРАПИЈА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684360" y="5516640"/>
            <a:ext cx="6107040" cy="11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Доц. др Катарина Парезановић- Илић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99640" y="752400"/>
            <a:ext cx="652788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Циљеви </a:t>
            </a:r>
            <a:br>
              <a:rPr sz="3600"/>
            </a:b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код примене топлотне 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th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899640" y="2336400"/>
            <a:ext cx="65214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1. Аналгезиј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2. Релаксација (мишићни спазам)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3. Хиперемиј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4. Повећан екстензибилитет колаген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5. Убрзање метаболичких процес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Индикациј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971280" y="2336400"/>
            <a:ext cx="784836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1. Субакутна и хронична мишићноскелетна стања 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   (тендинитис, теносиновитис, бурзитис, итд.)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2. Бол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3. Артритис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4. Контрактура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5. Релаксација мишића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6. Хронична инфламација (посттрауматска стања, 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    РА, дегенеративни артритис, ...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99640" y="752040"/>
            <a:ext cx="652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rebuchet MS"/>
              </a:rPr>
              <a:t>Контраиндикације </a:t>
            </a:r>
            <a:br>
              <a:rPr sz="3200"/>
            </a:br>
            <a:r>
              <a:rPr b="0" lang="sr-RS" sz="3200" spc="-1" strike="noStrike">
                <a:solidFill>
                  <a:srgbClr val="ffffff"/>
                </a:solidFill>
                <a:latin typeface="Trebuchet MS"/>
              </a:rPr>
              <a:t>за примену 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ermoth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899640" y="2336400"/>
            <a:ext cx="770436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Акутна траума, инфламација, хеморагија</a:t>
            </a:r>
            <a:br>
              <a:rPr sz="1500"/>
            </a:b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Може да погорша акутну инфламацију</a:t>
            </a:r>
            <a:br>
              <a:rPr sz="1500"/>
            </a:b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Оштећење циркулације (исхемија)</a:t>
            </a:r>
            <a:br>
              <a:rPr sz="1500"/>
            </a:b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Пов. метаб. активности може премашити капацитет арт. васкуларизације</a:t>
            </a:r>
            <a:br>
              <a:rPr sz="1500"/>
            </a:b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Поремећај коагулације (нпр. хемофилија)</a:t>
            </a:r>
            <a:br>
              <a:rPr sz="1500"/>
            </a:b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Велики ожиљци: ожиљци су аваскуларни и не могу добро да расипају топлоту: Малигнитет (повећава потенцијал за раст и хематогену дисеминацију)</a:t>
            </a:r>
            <a:br>
              <a:rPr sz="1500"/>
            </a:b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Опште контраиндикације (когнитивни дефицит, оштећење сензибилитета, и др.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Облици термотерапиј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971640" y="2133360"/>
            <a:ext cx="64497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арафинотерапиј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елоидотерпиј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арафанготерапиј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Терапија топлим песком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Терапија топлим ваздухом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Глин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Саун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99640" y="752040"/>
            <a:ext cx="652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rebuchet MS"/>
              </a:rPr>
              <a:t>ПАРАФИНОТЕРАПИЈА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900000" y="2336400"/>
            <a:ext cx="734400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арафинотерапија се обавља помоћу топлих парафинских облога и потапањем екстремитета у парафин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оред тога примена парафина се спроводи као маска код парализе н. Фациалис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арафински спреј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арафински калупи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042920" y="752040"/>
            <a:ext cx="6384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rebuchet MS"/>
              </a:rPr>
              <a:t>САУНА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533520" y="2336760"/>
            <a:ext cx="8215200" cy="42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Сауна је специјални вид парне коморе. Саграђена је од дрвета. Под је тако</a:t>
            </a: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ђ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е од дрвета. У тој просторији су смештене клупе. На најнижим клупама где је температура 60</a:t>
            </a:r>
            <a:r>
              <a:rPr b="0" lang="sr-Latn-RS" sz="2200" spc="-1" strike="noStrike">
                <a:solidFill>
                  <a:srgbClr val="ffffff"/>
                </a:solidFill>
                <a:latin typeface="Trebuchet MS"/>
              </a:rPr>
              <a:t> C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 или на највишим клупама где је темература 90-100</a:t>
            </a:r>
            <a:r>
              <a:rPr b="0" lang="sr-Latn-RS" sz="2200" spc="-1" strike="noStrike">
                <a:solidFill>
                  <a:srgbClr val="ffffff"/>
                </a:solidFill>
                <a:latin typeface="Trebuchet MS"/>
              </a:rPr>
              <a:t> C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. Обично је боравак у сауни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20-30 мин. Након боравка у сауни узима се хладан туш.Током боравка у сауни расте температура коже и до 40 </a:t>
            </a:r>
            <a:r>
              <a:rPr b="0" lang="sr-Latn-RS" sz="2200" spc="-1" strike="noStrike">
                <a:solidFill>
                  <a:srgbClr val="ffffff"/>
                </a:solidFill>
                <a:latin typeface="Trebuchet MS"/>
              </a:rPr>
              <a:t>C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 и организма до 39</a:t>
            </a:r>
            <a:r>
              <a:rPr b="0" lang="sr-Latn-RS" sz="2200" spc="-1" strike="noStrike">
                <a:solidFill>
                  <a:srgbClr val="ffffff"/>
                </a:solidFill>
                <a:latin typeface="Trebuchet MS"/>
              </a:rPr>
              <a:t> C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. Долази до профузног знојења. Понекад се излучи и 200 </a:t>
            </a:r>
            <a:r>
              <a:rPr b="0" lang="sr-Latn-RS" sz="2200" spc="-1" strike="noStrike">
                <a:solidFill>
                  <a:srgbClr val="ffffff"/>
                </a:solidFill>
                <a:latin typeface="Trebuchet MS"/>
              </a:rPr>
              <a:t>ml 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зноја. Убрзава се пулс, пада дијастолни притисак. Примењује се обично 2 пута недељно. 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Сауна има снажан стимулативни ефекат на организам, повећава општи тонус и радну способност организма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КРИОТЕРАПИЈ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610920" y="2336400"/>
            <a:ext cx="806436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Рецептори за хладноцу се називају Краузеова телашца и има их највише на лицу - око 20 на </a:t>
            </a:r>
            <a:r>
              <a:rPr b="0" lang="sr-Latn-RS" sz="2400" spc="-1" strike="noStrike">
                <a:solidFill>
                  <a:srgbClr val="ffffff"/>
                </a:solidFill>
                <a:latin typeface="Trebuchet MS"/>
              </a:rPr>
              <a:t>cm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2. Примена криотерапије треба да буде кратка, јер проду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ж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ена криотерапија изазива парезу крвних судова и успорење крвне струје и јавља се осећај хладноће а затим дрхтавица. Из тих разлога треба се држати по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Kowarschik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-у следећег правила: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"кратко и хладно".</a:t>
            </a:r>
            <a:br>
              <a:rPr sz="28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ацијенти третирани ледом у 90% случајева имају смањење гамма спастичности, а ефекат се одржава чак 10-12 сати по престанку процедуре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899640" y="752040"/>
            <a:ext cx="652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Терапијски ефекти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899640" y="2336760"/>
            <a:ext cx="74170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Криотерапија делује аналгетски. Апликацијом леда долази до смањења надражљивости и проводљивости нервних структура. Аналгезија се може запазити код посттрауматских стања где имамо реактивно запаљење и едем. Смањење едема доводи до смањења притиска и надражаја на периферне нервне завршетке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rebuchet MS"/>
              </a:rPr>
              <a:t>Техника</a:t>
            </a:r>
            <a:r>
              <a:rPr b="0" lang="sr-Latn-CS" sz="3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3600" spc="-1" strike="noStrike">
                <a:solidFill>
                  <a:srgbClr val="ffffff"/>
                </a:solidFill>
                <a:latin typeface="Trebuchet MS"/>
              </a:rPr>
              <a:t>апликациј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971280" y="2336400"/>
            <a:ext cx="727236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Локалн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паковањ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Имерзиј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(2-3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мин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, 5-6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пут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Криомасаж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субјективни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осећај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жарењ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Лако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испарљиве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течности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Trebuchet MS"/>
              </a:rPr>
              <a:t>Cryo-cuff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метод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(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до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48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сати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Хладн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вод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7129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Индикације за примену криотерапиј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мишицни спазам након повред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свеже повреде меких ткива 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оток и бол зглобова код запаљењ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спастичност код оштећења гамма моторног система (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Sclerosis multiplex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уводна терапија за примену кинезитерапиј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алгодистрофија у првом стадијуму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692360" y="764640"/>
            <a:ext cx="66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rebuchet MS"/>
              </a:rPr>
              <a:t>Т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rebuchet MS"/>
              </a:rPr>
              <a:t>Е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rebuchet MS"/>
              </a:rPr>
              <a:t>Р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rebuchet MS"/>
              </a:rPr>
              <a:t>М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rebuchet MS"/>
              </a:rPr>
              <a:t>О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rebuchet MS"/>
              </a:rPr>
              <a:t>Т Е Р А П И Ј А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1692360" y="2336400"/>
            <a:ext cx="572904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Trebuchet MS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 algn="just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загревањ</a:t>
            </a:r>
            <a:r>
              <a:rPr b="0" lang="sr-Latn-RS" sz="2400" spc="-1" strike="noStrike">
                <a:solidFill>
                  <a:srgbClr val="ffffff"/>
                </a:solidFill>
                <a:latin typeface="Trebuchet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тел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довођењем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топлот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 algn="just">
              <a:lnSpc>
                <a:spcPct val="90000"/>
              </a:lnSpc>
              <a:spcBef>
                <a:spcPts val="1001"/>
              </a:spcBef>
              <a:buClr>
                <a:srgbClr val="0811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 algn="just">
              <a:lnSpc>
                <a:spcPct val="90000"/>
              </a:lnSpc>
              <a:spcBef>
                <a:spcPts val="1001"/>
              </a:spcBef>
              <a:buClr>
                <a:srgbClr val="0811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хлађењ</a:t>
            </a:r>
            <a:r>
              <a:rPr b="0" lang="sr-Latn-RS" sz="2400" spc="-1" strike="noStrike">
                <a:solidFill>
                  <a:srgbClr val="ffffff"/>
                </a:solidFill>
                <a:latin typeface="Trebuchet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тел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одузимањем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топлот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Контраиндикациј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971640" y="2336760"/>
            <a:ext cx="7416720" cy="42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улцерације у периферним крвним судовима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(артеријска оштецења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(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артеријска оштећења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)</a:t>
            </a:r>
            <a:r>
              <a:rPr b="0" lang="sr-Latn-CS" sz="2400" spc="-1" strike="noStrike">
                <a:solidFill>
                  <a:srgbClr val="ffffff"/>
                </a:solidFill>
                <a:latin typeface="Trebuchet MS"/>
              </a:rPr>
              <a:t> III 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rebuchet MS"/>
              </a:rPr>
              <a:t> IV 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стадијум по </a:t>
            </a:r>
            <a:r>
              <a:rPr b="0" lang="sr-Latn-CS" sz="2400" spc="-1" strike="noStrike">
                <a:solidFill>
                  <a:srgbClr val="ffffff"/>
                </a:solidFill>
                <a:latin typeface="Trebuchet MS"/>
              </a:rPr>
              <a:t>Fontenu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оштећење сензибилиетта на хладноћу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алергија на хладноћу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morbus Raynaud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стања након промрзлин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Trebuchet MS"/>
              </a:rPr>
              <a:t>ТАЧКА ТОЛЕРАНЦИЈЕ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971640" y="2336400"/>
            <a:ext cx="644976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Тачка толеранције је степен загрејаности материје који још увек не прави никакве штетне последице на организам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За сув ваздух тацка толеранције је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100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C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граница толеранције за воду је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45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C, 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за парафин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65</a:t>
            </a:r>
            <a:r>
              <a:rPr b="0" lang="sr-R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C, 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елоид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50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C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rebuchet MS"/>
              </a:rPr>
              <a:t>СПЕФИФИЧНА ТОПЛОТА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971640" y="2336400"/>
            <a:ext cx="644976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Количина топлоте измерена у калоријама, која је неопходна да се 1 </a:t>
            </a:r>
            <a:r>
              <a:rPr b="0" lang="sr-Latn-RS" sz="2400" spc="-1" strike="noStrike">
                <a:solidFill>
                  <a:srgbClr val="ffffff"/>
                </a:solidFill>
                <a:latin typeface="Trebuchet MS"/>
              </a:rPr>
              <a:t>gr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неке супстанце загреје за 1</a:t>
            </a:r>
            <a:r>
              <a:rPr b="0" lang="sr-Latn-RS" sz="2400" spc="-1" strike="noStrike">
                <a:solidFill>
                  <a:srgbClr val="ffffff"/>
                </a:solidFill>
                <a:latin typeface="Trebuchet MS"/>
              </a:rPr>
              <a:t>0 C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назива се специфицна топлота</a:t>
            </a:r>
            <a:r>
              <a:rPr b="0" lang="sr-Latn-RS" sz="24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042920" y="752040"/>
            <a:ext cx="6384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rebuchet MS"/>
              </a:rPr>
              <a:t>ТЕРМОТЕРАПИЈА </a:t>
            </a:r>
            <a:br>
              <a:rPr sz="3200"/>
            </a:br>
            <a:r>
              <a:rPr b="0" lang="sr-RS" sz="3200" spc="-1" strike="noStrike">
                <a:solidFill>
                  <a:srgbClr val="ffffff"/>
                </a:solidFill>
                <a:latin typeface="Trebuchet MS"/>
              </a:rPr>
              <a:t>У УЖЕМ СМИСЛУ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1042920" y="2336400"/>
            <a:ext cx="63784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Класификује с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рема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- дубини пенетрације топлот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- начину трансфера топлот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Према дубини пенетрациј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971640" y="2336400"/>
            <a:ext cx="644976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Površna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npr. toplotna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pakovanja,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fluidoterapija,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IC zraci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Duboka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npr. ultrazvuk,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kratkotlasna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dijatermija,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mikrotalasna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dijatermija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rebuchet MS"/>
              </a:rPr>
              <a:t>ПРЕНОС ТОПЛОТЕ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971640" y="2420640"/>
            <a:ext cx="792144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Кондукција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(провођење топлоте)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Радијација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(зрачење)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Конвекција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(пренос топлоте преко неког медијума –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     топлотно струјање)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99640" y="752040"/>
            <a:ext cx="652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Биолошка деловања топлот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533160" y="2336400"/>
            <a:ext cx="835956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Хемодинамска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Вазодилатација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Смањење хроничне инфламације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Повећава инфламацију, едем, и крварење 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(егзарцебација акутних инфламаторних повреда)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Неуромишићна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Повећава моторну и сензорну проводљивост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 txBox="1"/>
          <p:nvPr/>
        </p:nvSpPr>
        <p:spPr>
          <a:xfrm>
            <a:off x="971640" y="2205000"/>
            <a:ext cx="7704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Ефекат на зглобове и везивна ткива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смањење мишићног тонуса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повећање екстензибилитета колагена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смањење укочености зглобова</a:t>
            </a: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Аналгетско дејство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Остало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уопштени ефекат релаксације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9:08:06Z</dcterms:created>
  <dc:creator>WIN98SE</dc:creator>
  <dc:description/>
  <dc:language>en-US</dc:language>
  <cp:lastModifiedBy>katarinaparezanovicilic@gmail.com</cp:lastModifiedBy>
  <dcterms:modified xsi:type="dcterms:W3CDTF">2020-09-26T16:54:52Z</dcterms:modified>
  <cp:revision>38</cp:revision>
  <dc:subject/>
  <dc:title>Balneoterapija</dc:title>
</cp:coreProperties>
</file>