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C9E-3C74-45B3-85F9-4EAC97A0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1EC-9D24-4767-BBA4-3CF3F6D3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17C-212F-4ADB-9E0D-9EB5643D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446-8AD3-41FE-8570-51075602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5A0-44D0-4FC2-8656-7ABA559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BF3-41F6-478A-BB83-F9FAC8B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DE7-7495-4570-9816-23D8667A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0C2-7AED-457B-8737-263DF546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04B-C988-4DA2-832B-3A8B5B6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8D7-46E2-4215-9B46-89BAD37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E90-B8F1-406A-9693-40EBAE33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9B6-DEF0-4ED9-B6A4-A1F8E91C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5E1-7B0A-4D7E-8652-26DF17E9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11280" y="46368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тарина Парезанов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 Илић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МАГНЕТОТЕРАПИЈ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1332000" y="1746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1332000" y="2106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99"/>
                </a:solidFill>
                <a:latin typeface="Arial"/>
              </a:rPr>
              <a:t>Дејство магне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елуларни-дејство на ћелијску мембрану (ед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неуровегетативни-преко хипоталамуса на ЦНС и 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ендокрини систем (отпорност,сан, спастицит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иркулаторни-преко надбубрега и хипоталамус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(рефлаксно вазодилатато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Arial"/>
              </a:rPr>
              <a:t>Индикације за магнет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мијалгије, периартритис, епиконди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артрозе, арт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цервикални и лумбални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дисторзије, контузије, луксације,фрактуре, 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васкулопатије, торпидни улкуси разне 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херпес зостер,постхерпетичне неурал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екцеми, акне, фурункулозе, дерматитиси, псор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Контраиндикације за магнетотерап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гравид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оремећај коагулације-хемофи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аце-мак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јувенилни узра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хипотен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малигн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фебрилна ст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активна форма туберку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Исто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Модерна али не и нов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инези су пре ви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ше хиљада година стављали магнетну руду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на поједине о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гипћани су користили блато из реке Нил богато магне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 веку Wiliam Gilbert, откривач електрицитета,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поручује магнете за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I веку(1723) Glaisault производи прв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вештачке магнете, али тек 1777. год Le Nobl први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дставља вешта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ч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ке магнете медицинском св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Данашња истраживања су усмерена на испитивање вез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између геомагнетских поља и биообјек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но поље човека износи 10 на минус 14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Најснажније биолошко магнетно по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љ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 човека ј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магнетно поље с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редност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реко гипса,завоја,одеће,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обро се комбинује са свим ост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лим аге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остоји минимум контраинд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одмах по настанку повреде или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Недостац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човек нема рецепторе за магнетно поље,</a:t>
            </a:r>
            <a:br>
              <a:rPr sz="2400"/>
            </a:b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 нема осећај да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ејство је блаже, захтева дуж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дела магнетног поља у терап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А: 1. ст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променљива: а.импулсна; б.алтерн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импулсно магнетно поље настаје проласком импулсних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  (галванске) струја кроз маг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алтернативно проласком наизменичне струје кроз маг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Б: 1. нискофреквентна–до 100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исокофреквентна више десетина МХз-загре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3. мешовита – високофреквентна појла која се генеришу у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серијама раздвојени паузама.Фреквенце серија су из високих 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фреквенца.,пауза су из ниских фреквенца. Индукције су м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како би се избегли термички ефекти који увек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прате високофрекв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Ц: 1. природна-геомагнетно по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ешт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Примена магнетног по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Безапаратурном техни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офоре - ситни округли или плочасти предмети изграђени од магнетне руде са примесом см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Апликују се на оболили део дела и носе 2-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Апаратурном техником-користе електромагнетно пољ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апаратурној магнето терапији користе се уређај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нис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висо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71640" y="1201680"/>
            <a:ext cx="8172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Нис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2-10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Висо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100-64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Модерна апаратур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има фреквенцу од 5-640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Електроде код магнетотерапије 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анте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соленоид</a:t>
            </a:r>
            <a:r>
              <a:rPr b="1" lang="sr-C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6560" y="2054160"/>
            <a:ext cx="8548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sr-CS" sz="2600" spc="-1" strike="noStrike">
                <a:solidFill>
                  <a:srgbClr val="333399"/>
                </a:solidFill>
                <a:latin typeface="Arial"/>
              </a:rPr>
              <a:t>малa дозa     великa doзa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индуkциј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B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mТ)                     3                   5-1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фреквeнца f (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Hz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               &lt; 6                 25-5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трајaње трeтмaнa Т (m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in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5-10               15-3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број третман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N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путa)          5-15          2 нед.-3 мeс.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31480" y="10886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Доз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рање</a:t>
            </a: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6660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римен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6720" y="1959120"/>
            <a:ext cx="75610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Локалн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Општ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Надбубрежна жлезд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хронични ифламаторн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и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реуматизам, артрозе, упале венског порекла, ран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Јетр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инфекције, некрозе,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консолидације костију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зин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теже трауматске повреде, едеми, хематоми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Епигасриум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</a:t>
            </a:r>
            <a:br>
              <a:rPr sz="1800"/>
            </a:b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поремећаји периферног крв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Лимфних чворов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проблем лимф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акрум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артрозе, исцхиалги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Терапијска дејств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локална вазодила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алгетс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едематоз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трофи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стварање ка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зарастање рана и улк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4:16Z</dcterms:modified>
  <cp:revision>37</cp:revision>
  <dc:subject/>
  <dc:title>Slide 1</dc:title>
</cp:coreProperties>
</file>